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5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FDBB-3855-47EC-8FFF-3DEFFC7A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8BB2-9128-4E91-9045-BADE6254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F8AC-CE12-42B2-857B-E50FB940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390E-575A-4548-BD16-AAA333EF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CBEE-4F9A-4501-ABFE-278A7D1A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EE0D-5E68-49F6-9789-804C1868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631E-5799-4748-99E3-A90FB768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788A-C633-4877-A5A2-25951859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EE9A-1D01-4B99-A966-EBDA25AB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3296-AAB9-4F06-BEDC-A61ACF23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DC7F-8BC8-49F8-A137-2DC3E7AD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2040-6EB5-43B0-8974-B0454BB1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DFCC-CB59-4B17-9B05-685B8F02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3BE1-16A6-448B-91E1-1F0B2615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F66C-DC60-41F1-B5FD-F0A815AA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2A69-787B-4E4F-865C-640B98A8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ACCA-3CA2-4966-951E-851B78F4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8C3-1A45-4112-8DAC-1623D86E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4591-CF74-4DDB-A37B-9CA4BC61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0A9E-1570-4ADA-9021-67DD1A7E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124C-F015-452A-A16D-7B380C24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AA5C-1DA8-4D7B-B404-81FCC382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FB8-686F-482D-BA23-CE474C50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FE58-CA28-40FC-90FA-75567DE4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6E36-460A-4F5B-919E-0A53FE9F1A6C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5E5B-9D9D-47BF-9E30-83E7AA279B4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715240" cy="6215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7120" y="3857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Black"/>
              </a:rPr>
              <a:t>QUÍMICA BIOLÓ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7 CuadroTexto"/>
          <p:cNvSpPr/>
          <p:nvPr/>
        </p:nvSpPr>
        <p:spPr>
          <a:xfrm>
            <a:off x="1866600" y="531720"/>
            <a:ext cx="506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Cs. BIOLÓG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Prof. en BI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BIOTECN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8 CuadroTexto"/>
          <p:cNvSpPr/>
          <p:nvPr/>
        </p:nvSpPr>
        <p:spPr>
          <a:xfrm>
            <a:off x="3870000" y="5000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Arial Black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Escudo_UNSL.jpg"/>
          <p:cNvPicPr/>
          <p:nvPr/>
        </p:nvPicPr>
        <p:blipFill>
          <a:blip r:embed="rId2"/>
          <a:stretch/>
        </p:blipFill>
        <p:spPr>
          <a:xfrm>
            <a:off x="0" y="0"/>
            <a:ext cx="1285920" cy="1447920"/>
          </a:xfrm>
          <a:prstGeom prst="rect">
            <a:avLst/>
          </a:prstGeom>
          <a:ln w="0">
            <a:noFill/>
          </a:ln>
        </p:spPr>
      </p:pic>
      <p:sp>
        <p:nvSpPr>
          <p:cNvPr id="87" name="6 CuadroTexto"/>
          <p:cNvSpPr/>
          <p:nvPr/>
        </p:nvSpPr>
        <p:spPr>
          <a:xfrm>
            <a:off x="6715080" y="6211800"/>
            <a:ext cx="236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1 Rectángulo"/>
          <p:cNvSpPr/>
          <p:nvPr/>
        </p:nvSpPr>
        <p:spPr>
          <a:xfrm>
            <a:off x="826920" y="1989000"/>
            <a:ext cx="649440" cy="56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28760" y="203040"/>
            <a:ext cx="5257800" cy="4608720"/>
          </a:xfrm>
          <a:prstGeom prst="rect">
            <a:avLst/>
          </a:prstGeom>
          <a:ln w="0">
            <a:noFill/>
          </a:ln>
        </p:spPr>
      </p:pic>
      <p:sp>
        <p:nvSpPr>
          <p:cNvPr id="178" name="5 CuadroTexto"/>
          <p:cNvSpPr/>
          <p:nvPr/>
        </p:nvSpPr>
        <p:spPr>
          <a:xfrm>
            <a:off x="6948360" y="692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6 CuadroTexto"/>
          <p:cNvSpPr/>
          <p:nvPr/>
        </p:nvSpPr>
        <p:spPr>
          <a:xfrm>
            <a:off x="1857240" y="4714920"/>
            <a:ext cx="5643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os sistemas de Cit P- 450 participan en reacciones de oxigenación, desulfuración, desaminación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activas en hí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Son enzimas induci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Inductores: </a:t>
            </a:r>
            <a:r>
              <a:rPr b="1" lang="es-MX" sz="2000" spc="-1" strike="noStrike">
                <a:solidFill>
                  <a:srgbClr val="c00000"/>
                </a:solidFill>
                <a:latin typeface="Comic Sans MS"/>
              </a:rPr>
              <a:t>XENOBIÓ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1 CuadroTexto"/>
          <p:cNvSpPr/>
          <p:nvPr/>
        </p:nvSpPr>
        <p:spPr>
          <a:xfrm>
            <a:off x="395280" y="0"/>
            <a:ext cx="8353440" cy="58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c00000"/>
                </a:solidFill>
                <a:uFillTx/>
                <a:latin typeface="Comic Sans MS"/>
              </a:rPr>
              <a:t>METABOLISMO DE XENOBIÓ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Sistema enzimático inducible (cit P-4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Inductores: </a:t>
            </a:r>
            <a:r>
              <a:rPr b="1" lang="es-MX" sz="2400" spc="-1" strike="noStrike">
                <a:solidFill>
                  <a:srgbClr val="c00000"/>
                </a:solidFill>
                <a:latin typeface="Comic Sans MS"/>
              </a:rPr>
              <a:t>XENOBIÓTICOS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(del griego, xenos, extraño) </a:t>
            </a: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son compuestos ajenos al organismo, muchas veces nociv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fármacos, conservantes/aditivos de alimentos, carbón del asad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00000"/>
                </a:solidFill>
                <a:uFillTx/>
                <a:latin typeface="Comic Sans MS"/>
              </a:rPr>
              <a:t>IMPORTANCIA BIOMÉ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L HÍGADO ES EL PRINCIPAL ÓRGANO DONDE SE LLEVA A CABO LA METABOLIZACIÓN (DESTOXIFICACIÓN ó DESINTOXICACIÓN) DE LOS XENOBIÓ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COMPRENSIÓN RACIONAL DE LA FARMACOLOGÍA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TOXICOLOGÍA - INVESTIGACIÓN DEL CÁ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ño Oxidativo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f497d"/>
                </a:solidFill>
                <a:latin typeface="Arial"/>
              </a:rPr>
              <a:t>ESPECIES REACTIVAS DEL OXIGENO (E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57200" y="2104920"/>
            <a:ext cx="403848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2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2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067280" y="2300400"/>
            <a:ext cx="4619520" cy="362880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xígeno Mole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dical Superóx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óxido de Hidr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dical Hidrox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Imagen 34851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7183440" cy="2714760"/>
          </a:xfrm>
          <a:prstGeom prst="rect">
            <a:avLst/>
          </a:prstGeom>
          <a:ln w="0">
            <a:noFill/>
          </a:ln>
        </p:spPr>
      </p:pic>
      <p:sp>
        <p:nvSpPr>
          <p:cNvPr id="185" name="2 CuadroTexto"/>
          <p:cNvSpPr/>
          <p:nvPr/>
        </p:nvSpPr>
        <p:spPr>
          <a:xfrm>
            <a:off x="3091320" y="50004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Especies Reactivas del Oxí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Imagen 17" descr=""/>
          <p:cNvPicPr/>
          <p:nvPr/>
        </p:nvPicPr>
        <p:blipFill>
          <a:blip r:embed="rId1"/>
          <a:stretch/>
        </p:blipFill>
        <p:spPr>
          <a:xfrm>
            <a:off x="612720" y="1714680"/>
            <a:ext cx="8210520" cy="2357280"/>
          </a:xfrm>
          <a:prstGeom prst="rect">
            <a:avLst/>
          </a:prstGeom>
          <a:ln w="0">
            <a:noFill/>
          </a:ln>
        </p:spPr>
      </p:pic>
      <p:sp>
        <p:nvSpPr>
          <p:cNvPr id="187" name="2 CuadroTexto"/>
          <p:cNvSpPr/>
          <p:nvPr/>
        </p:nvSpPr>
        <p:spPr>
          <a:xfrm>
            <a:off x="2898720" y="85716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¿Cómo se originan las ER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8485200" cy="4071960"/>
          </a:xfrm>
          <a:prstGeom prst="rect">
            <a:avLst/>
          </a:prstGeom>
          <a:ln w="0">
            <a:noFill/>
          </a:ln>
        </p:spPr>
      </p:pic>
      <p:sp>
        <p:nvSpPr>
          <p:cNvPr id="189" name="2 CuadroTexto"/>
          <p:cNvSpPr/>
          <p:nvPr/>
        </p:nvSpPr>
        <p:spPr>
          <a:xfrm>
            <a:off x="2156400" y="142920"/>
            <a:ext cx="44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¿Cómo  y dónde se originan las ER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3 CuadroTexto"/>
          <p:cNvSpPr/>
          <p:nvPr/>
        </p:nvSpPr>
        <p:spPr>
          <a:xfrm>
            <a:off x="573120" y="4214880"/>
            <a:ext cx="784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07800" y="903240"/>
            <a:ext cx="8479080" cy="4668840"/>
          </a:xfrm>
          <a:prstGeom prst="rect">
            <a:avLst/>
          </a:prstGeom>
          <a:ln w="0">
            <a:noFill/>
          </a:ln>
        </p:spPr>
      </p:pic>
      <p:sp>
        <p:nvSpPr>
          <p:cNvPr id="192" name="3 CuadroTexto"/>
          <p:cNvSpPr/>
          <p:nvPr/>
        </p:nvSpPr>
        <p:spPr>
          <a:xfrm>
            <a:off x="571680" y="4786200"/>
            <a:ext cx="784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 CuadroTexto"/>
          <p:cNvSpPr/>
          <p:nvPr/>
        </p:nvSpPr>
        <p:spPr>
          <a:xfrm>
            <a:off x="2156400" y="142920"/>
            <a:ext cx="44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¿Cómo  y dónde se originan las ER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785880" y="257040"/>
            <a:ext cx="8658000" cy="6315120"/>
          </a:xfrm>
          <a:prstGeom prst="rect">
            <a:avLst/>
          </a:prstGeom>
          <a:ln w="0">
            <a:noFill/>
          </a:ln>
        </p:spPr>
      </p:pic>
      <p:sp>
        <p:nvSpPr>
          <p:cNvPr id="195" name="2 CuadroTexto"/>
          <p:cNvSpPr/>
          <p:nvPr/>
        </p:nvSpPr>
        <p:spPr>
          <a:xfrm>
            <a:off x="1001880" y="4857840"/>
            <a:ext cx="784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428760" y="0"/>
            <a:ext cx="8694720" cy="6286680"/>
          </a:xfrm>
          <a:prstGeom prst="rect">
            <a:avLst/>
          </a:prstGeom>
          <a:ln w="0">
            <a:noFill/>
          </a:ln>
        </p:spPr>
      </p:pic>
      <p:sp>
        <p:nvSpPr>
          <p:cNvPr id="197" name="2 CuadroTexto"/>
          <p:cNvSpPr/>
          <p:nvPr/>
        </p:nvSpPr>
        <p:spPr>
          <a:xfrm>
            <a:off x="1001880" y="4929120"/>
            <a:ext cx="784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f497d"/>
                </a:solidFill>
                <a:latin typeface="Arial"/>
              </a:rPr>
              <a:t>Defensa antioxidan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f497d"/>
                </a:solidFill>
                <a:latin typeface="Arial"/>
              </a:rPr>
              <a:t>Eliminación de 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5fa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ensa enzi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ZIMAS ANTIOXID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ensa No enzi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STANCIAS QUIMICAS ANTIOXIDA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5940360" y="3860640"/>
            <a:ext cx="2735280" cy="249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scorb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tamina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eta-carot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lutatión redu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G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4929120" y="1500120"/>
            <a:ext cx="2232000" cy="23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lutatión peroxidas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 (GP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óxido dismutasa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SOD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ta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lamula.pe/media/uploads/789d4548d685473cae57d136b537bf3a.jpg"/>
          <p:cNvPicPr/>
          <p:nvPr/>
        </p:nvPicPr>
        <p:blipFill>
          <a:blip r:embed="rId1"/>
          <a:stretch/>
        </p:blipFill>
        <p:spPr>
          <a:xfrm>
            <a:off x="0" y="617400"/>
            <a:ext cx="91440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3 Rectángulo"/>
          <p:cNvSpPr/>
          <p:nvPr/>
        </p:nvSpPr>
        <p:spPr>
          <a:xfrm>
            <a:off x="214200" y="0"/>
            <a:ext cx="89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LIC. CS. BIOLÓGICAS – PROF. BIOLOGÍA – LIC. BIOTECNOLOGÍA</a:t>
            </a: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                   QCA. B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4 Rectángulo"/>
          <p:cNvSpPr/>
          <p:nvPr/>
        </p:nvSpPr>
        <p:spPr>
          <a:xfrm>
            <a:off x="357120" y="738360"/>
            <a:ext cx="80726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 CuadroTexto"/>
          <p:cNvSpPr/>
          <p:nvPr/>
        </p:nvSpPr>
        <p:spPr>
          <a:xfrm>
            <a:off x="0" y="1214280"/>
            <a:ext cx="907272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Calibri"/>
              </a:rPr>
              <a:t>BOLILLA 2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Transporte electrónico mitocondrial. Fosforilación oxidativa. Mitocondrias. Cadena respiratoria. 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Localización. Balance energético. Desacoplantes: proteínas desacopladoras. Inhibidores. Síntesis de ATP. Hipótesis quimiosmótica.</a:t>
            </a:r>
            <a:br>
              <a:rPr sz="1800"/>
            </a:b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Translocasas. Regulación de la fosforilación oxidativa. Oxidasa alternativa en vegetales. Luciferina-lucifer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Transporte electrónico cloroplástico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Fotofosforilación y fotosíntesis.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 Proceso en plantas superiores. Reacciones luminosas. Captación de la energía luminosa. Cloroplastos y pigmentos. Transporte electrónico cíclico y no cícl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Síntesis de ATP por fotofosforil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Similitudes entre fosforilación oxidativa y fotofosfori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Concepto unificador de la teoría quimiosmót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Otros organismos fotosintetiza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Sistema microsomal de transporte electrónico, Citocromo P</a:t>
            </a:r>
            <a:r>
              <a:rPr b="1" lang="es-AR" sz="1800" spc="-1" strike="noStrike" baseline="-25000">
                <a:solidFill>
                  <a:srgbClr val="ff0000"/>
                </a:solidFill>
                <a:latin typeface="Calibri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Formación de compuestos oxígeno-reactivo. Radicales libres. Sistemas de protección antioxidante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4"/>
          <p:cNvGrpSpPr/>
          <p:nvPr/>
        </p:nvGrpSpPr>
        <p:grpSpPr>
          <a:xfrm>
            <a:off x="2987640" y="2205000"/>
            <a:ext cx="5904000" cy="637560"/>
            <a:chOff x="2987640" y="2205000"/>
            <a:chExt cx="5904000" cy="637560"/>
          </a:xfrm>
        </p:grpSpPr>
        <p:sp>
          <p:nvSpPr>
            <p:cNvPr id="203" name="Rectangle 5"/>
            <p:cNvSpPr/>
            <p:nvPr/>
          </p:nvSpPr>
          <p:spPr>
            <a:xfrm>
              <a:off x="2987640" y="2205000"/>
              <a:ext cx="5904000" cy="637560"/>
            </a:xfrm>
            <a:prstGeom prst="rect">
              <a:avLst/>
            </a:prstGeom>
            <a:solidFill>
              <a:srgbClr val="fbfda1"/>
            </a:solidFill>
            <a:ln w="12600">
              <a:solidFill>
                <a:srgbClr val="fbfd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   O2</a:t>
              </a:r>
              <a:r>
                <a:rPr b="1" lang="es-ES_tradnl" sz="3600" spc="-1" strike="noStrike" baseline="30000">
                  <a:solidFill>
                    <a:srgbClr val="000000"/>
                  </a:solidFill>
                  <a:latin typeface="Arial"/>
                </a:rPr>
                <a:t>.-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+ 2 H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          H2O2 + O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6"/>
            <p:cNvSpPr/>
            <p:nvPr/>
          </p:nvSpPr>
          <p:spPr>
            <a:xfrm>
              <a:off x="5148360" y="2421000"/>
              <a:ext cx="14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7"/>
          <p:cNvSpPr/>
          <p:nvPr/>
        </p:nvSpPr>
        <p:spPr>
          <a:xfrm>
            <a:off x="673200" y="6461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684360" y="476280"/>
            <a:ext cx="822636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f497d"/>
                </a:solidFill>
                <a:latin typeface="Arial"/>
              </a:rPr>
              <a:t>Enzimas antioxid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611280" y="3789360"/>
            <a:ext cx="1655640" cy="1081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TA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539640" y="5229360"/>
            <a:ext cx="2016360" cy="1368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LU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OX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1"/>
          <p:cNvGrpSpPr/>
          <p:nvPr/>
        </p:nvGrpSpPr>
        <p:grpSpPr>
          <a:xfrm>
            <a:off x="2771640" y="3932280"/>
            <a:ext cx="5399280" cy="454680"/>
            <a:chOff x="2771640" y="3932280"/>
            <a:chExt cx="5399280" cy="454680"/>
          </a:xfrm>
        </p:grpSpPr>
        <p:sp>
          <p:nvSpPr>
            <p:cNvPr id="210" name="Rectangle 12"/>
            <p:cNvSpPr/>
            <p:nvPr/>
          </p:nvSpPr>
          <p:spPr>
            <a:xfrm>
              <a:off x="2771640" y="3932280"/>
              <a:ext cx="5399280" cy="454680"/>
            </a:xfrm>
            <a:prstGeom prst="rect">
              <a:avLst/>
            </a:prstGeom>
            <a:solidFill>
              <a:srgbClr val="fbfda1"/>
            </a:solidFill>
            <a:ln w="12600">
              <a:solidFill>
                <a:srgbClr val="fbfd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  H2O2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H2O + O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3"/>
            <p:cNvSpPr/>
            <p:nvPr/>
          </p:nvSpPr>
          <p:spPr>
            <a:xfrm>
              <a:off x="4356000" y="4147920"/>
              <a:ext cx="187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4"/>
          <p:cNvGrpSpPr/>
          <p:nvPr/>
        </p:nvGrpSpPr>
        <p:grpSpPr>
          <a:xfrm>
            <a:off x="2843280" y="5661000"/>
            <a:ext cx="6262560" cy="573120"/>
            <a:chOff x="2843280" y="5661000"/>
            <a:chExt cx="6262560" cy="573120"/>
          </a:xfrm>
        </p:grpSpPr>
        <p:sp>
          <p:nvSpPr>
            <p:cNvPr id="213" name="Rectangle 15"/>
            <p:cNvSpPr/>
            <p:nvPr/>
          </p:nvSpPr>
          <p:spPr>
            <a:xfrm>
              <a:off x="2843280" y="5661000"/>
              <a:ext cx="6262560" cy="573120"/>
            </a:xfrm>
            <a:prstGeom prst="rect">
              <a:avLst/>
            </a:prstGeom>
            <a:solidFill>
              <a:srgbClr val="fbfda1"/>
            </a:solidFill>
            <a:ln w="12600">
              <a:solidFill>
                <a:srgbClr val="fbfd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 GSH + H2O2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GSSG + 2H2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6"/>
            <p:cNvSpPr/>
            <p:nvPr/>
          </p:nvSpPr>
          <p:spPr>
            <a:xfrm>
              <a:off x="5146560" y="5948280"/>
              <a:ext cx="129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Oval 17"/>
          <p:cNvSpPr/>
          <p:nvPr/>
        </p:nvSpPr>
        <p:spPr>
          <a:xfrm>
            <a:off x="466560" y="1844640"/>
            <a:ext cx="2376720" cy="1584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UPEROX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MU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71280" y="285840"/>
            <a:ext cx="8877600" cy="5375160"/>
          </a:xfrm>
          <a:prstGeom prst="rect">
            <a:avLst/>
          </a:prstGeom>
          <a:ln w="0">
            <a:noFill/>
          </a:ln>
        </p:spPr>
      </p:pic>
      <p:sp>
        <p:nvSpPr>
          <p:cNvPr id="217" name="2 CuadroTexto"/>
          <p:cNvSpPr/>
          <p:nvPr/>
        </p:nvSpPr>
        <p:spPr>
          <a:xfrm>
            <a:off x="1315800" y="5715000"/>
            <a:ext cx="7031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Producción mitocondrial de superóxido y su elim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acciones de defensa antioxidante: flechas az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SH: glutatión redu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3 CuadroTexto"/>
          <p:cNvSpPr/>
          <p:nvPr/>
        </p:nvSpPr>
        <p:spPr>
          <a:xfrm>
            <a:off x="6572160" y="5214960"/>
            <a:ext cx="25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ehninger A. L., 4ª Edic. 2007– C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1143000" y="714240"/>
            <a:ext cx="7012080" cy="4286520"/>
          </a:xfrm>
          <a:prstGeom prst="rect">
            <a:avLst/>
          </a:prstGeom>
          <a:ln w="0">
            <a:noFill/>
          </a:ln>
        </p:spPr>
      </p:pic>
      <p:sp>
        <p:nvSpPr>
          <p:cNvPr id="220" name="2 CuadroTexto"/>
          <p:cNvSpPr/>
          <p:nvPr/>
        </p:nvSpPr>
        <p:spPr>
          <a:xfrm>
            <a:off x="807480" y="4929120"/>
            <a:ext cx="738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- Equilibrio entre  prooxidantes y defensas antioxidantes </a:t>
            </a:r>
            <a:r>
              <a:rPr b="1" lang="es-ES_tradnl" sz="1600" spc="-1" strike="noStrike">
                <a:solidFill>
                  <a:srgbClr val="0070c0"/>
                </a:solidFill>
                <a:latin typeface="Arial"/>
              </a:rPr>
              <a:t>(Normal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- Aumento de prooxidantes, desequilibrio antioxidante 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(Estrés Oxidativ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3 CuadroTexto"/>
          <p:cNvSpPr/>
          <p:nvPr/>
        </p:nvSpPr>
        <p:spPr>
          <a:xfrm>
            <a:off x="1470240" y="14288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4 CuadroTexto"/>
          <p:cNvSpPr/>
          <p:nvPr/>
        </p:nvSpPr>
        <p:spPr>
          <a:xfrm>
            <a:off x="1500120" y="321480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Química Biológica”- Autor: Antonio Blanco- Editorial El Ateneo-Reimpresión 8° edic.-200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Química Biológica”-Lehninger A. L., 4ª Edic. (2007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Lo Esencial en metabolismo y Nutrición”-Cursos Crash de Mosby- Autor: Sarah Benyon-Ed. Harcourt Brace- 1°Ed. 199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n 2" descr="C:\Users\Fanny\Documents\Quimica Biologica I\1-Imagenes Lehninger\TRaducidas\cadena respiratoria.jpg"/>
          <p:cNvPicPr/>
          <p:nvPr/>
        </p:nvPicPr>
        <p:blipFill>
          <a:blip r:embed="rId1"/>
          <a:stretch/>
        </p:blipFill>
        <p:spPr>
          <a:xfrm>
            <a:off x="468360" y="351000"/>
            <a:ext cx="8064360" cy="6048360"/>
          </a:xfrm>
          <a:prstGeom prst="rect">
            <a:avLst/>
          </a:prstGeom>
          <a:ln w="0">
            <a:noFill/>
          </a:ln>
        </p:spPr>
      </p:pic>
      <p:sp>
        <p:nvSpPr>
          <p:cNvPr id="93" name="2 CuadroTexto"/>
          <p:cNvSpPr/>
          <p:nvPr/>
        </p:nvSpPr>
        <p:spPr>
          <a:xfrm>
            <a:off x="7013520" y="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Repasemos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TRANSPORTE ELECTRÓNICO MITOCONDRIAL</a:t>
            </a:r>
            <a:br>
              <a:rPr sz="2800"/>
            </a:b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CADENA RESPIRATORIA</a:t>
            </a:r>
            <a:br>
              <a:rPr sz="2500"/>
            </a:br>
            <a:br>
              <a:rPr sz="2500"/>
            </a:br>
            <a:br>
              <a:rPr sz="29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0000"/>
                </a:solidFill>
                <a:latin typeface="Calibri"/>
              </a:rPr>
              <a:t>PROCESOS INVOLUCRA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Transporte de electrones en la membrana interna mitocondr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Traslocación de H</a:t>
            </a:r>
            <a:r>
              <a:rPr b="1" lang="es-ES" sz="26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 acoplado al transporte de electro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Formación de un gradiente electroquímico (H</a:t>
            </a:r>
            <a:r>
              <a:rPr b="1" lang="es-ES" sz="26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 y cargas positivas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Fuerza “protón-motriz”, pasaje de los H</a:t>
            </a:r>
            <a:r>
              <a:rPr b="1" lang="es-ES" sz="26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 a través de Fo de </a:t>
            </a:r>
            <a:r>
              <a:rPr b="1" i="1" lang="es-ES" sz="2600" spc="-1" strike="noStrike">
                <a:solidFill>
                  <a:srgbClr val="000000"/>
                </a:solidFill>
                <a:latin typeface="Calibri"/>
              </a:rPr>
              <a:t>ATP sint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Fosforilación Oxidativa: Síntesis de ATP acopla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CuadroTexto"/>
          <p:cNvSpPr/>
          <p:nvPr/>
        </p:nvSpPr>
        <p:spPr>
          <a:xfrm>
            <a:off x="6423480" y="1500120"/>
            <a:ext cx="225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epasemo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1 CuadroTexto"/>
          <p:cNvSpPr/>
          <p:nvPr/>
        </p:nvSpPr>
        <p:spPr>
          <a:xfrm>
            <a:off x="714240" y="1214280"/>
            <a:ext cx="7821720" cy="52754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xisten sistemas de transporte de electrones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distintos de la Cadena Respi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participan en la síntesis de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articipan en reacciones de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hidroxilaciones y deshidrogenaciones del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s enzimas que participan se denomi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00ff"/>
                </a:solidFill>
                <a:latin typeface="Arial"/>
              </a:rPr>
              <a:t>monooxigenasas u oxigenasas de función mix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CuadroTexto"/>
          <p:cNvSpPr/>
          <p:nvPr/>
        </p:nvSpPr>
        <p:spPr>
          <a:xfrm>
            <a:off x="357120" y="0"/>
            <a:ext cx="8429760" cy="1556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Arial"/>
              </a:rPr>
              <a:t>OTROS SISTE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Arial"/>
              </a:rPr>
              <a:t>DE TRANSPORTE DE ELECTR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OXIDASAS Y OXIGEN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68360" y="1484280"/>
            <a:ext cx="8229600" cy="204480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calización: Microsomas y peroxis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 asociados a la producción de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san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como sustrato, consumen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6"/>
          <p:cNvGrpSpPr/>
          <p:nvPr/>
        </p:nvGrpSpPr>
        <p:grpSpPr>
          <a:xfrm>
            <a:off x="971640" y="3645000"/>
            <a:ext cx="2305080" cy="1972440"/>
            <a:chOff x="971640" y="3645000"/>
            <a:chExt cx="2305080" cy="1972440"/>
          </a:xfrm>
        </p:grpSpPr>
        <p:sp>
          <p:nvSpPr>
            <p:cNvPr id="102" name="Text Box 7"/>
            <p:cNvSpPr/>
            <p:nvPr/>
          </p:nvSpPr>
          <p:spPr>
            <a:xfrm>
              <a:off x="971640" y="3645000"/>
              <a:ext cx="2305080" cy="4597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Calibri"/>
                </a:rPr>
                <a:t>OXIDAS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8"/>
            <p:cNvSpPr/>
            <p:nvPr/>
          </p:nvSpPr>
          <p:spPr>
            <a:xfrm>
              <a:off x="971640" y="5157720"/>
              <a:ext cx="2232000" cy="4597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Calibri"/>
                </a:rPr>
                <a:t>OXIGENAS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9"/>
          <p:cNvGrpSpPr/>
          <p:nvPr/>
        </p:nvGrpSpPr>
        <p:grpSpPr>
          <a:xfrm>
            <a:off x="3492360" y="3500280"/>
            <a:ext cx="4392720" cy="654840"/>
            <a:chOff x="3492360" y="3500280"/>
            <a:chExt cx="4392720" cy="654840"/>
          </a:xfrm>
        </p:grpSpPr>
        <p:sp>
          <p:nvSpPr>
            <p:cNvPr id="105" name="Line 10"/>
            <p:cNvSpPr/>
            <p:nvPr/>
          </p:nvSpPr>
          <p:spPr>
            <a:xfrm>
              <a:off x="3492360" y="3933720"/>
              <a:ext cx="115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>
              <a:off x="5076720" y="3645000"/>
              <a:ext cx="280836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No incorporan O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2"/>
            <p:cNvSpPr/>
            <p:nvPr/>
          </p:nvSpPr>
          <p:spPr>
            <a:xfrm>
              <a:off x="3780000" y="3500280"/>
              <a:ext cx="8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Oxi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3348000" y="4653000"/>
            <a:ext cx="2809800" cy="1695960"/>
            <a:chOff x="3348000" y="4653000"/>
            <a:chExt cx="2809800" cy="1695960"/>
          </a:xfrm>
        </p:grpSpPr>
        <p:sp>
          <p:nvSpPr>
            <p:cNvPr id="109" name="Text Box 14"/>
            <p:cNvSpPr/>
            <p:nvPr/>
          </p:nvSpPr>
          <p:spPr>
            <a:xfrm>
              <a:off x="3492360" y="4653000"/>
              <a:ext cx="266544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alibri"/>
                </a:rPr>
                <a:t>MONOOXIGENA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3419640" y="5950080"/>
              <a:ext cx="223200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Calibri"/>
                </a:rPr>
                <a:t>DIOXIGENA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6"/>
            <p:cNvSpPr/>
            <p:nvPr/>
          </p:nvSpPr>
          <p:spPr>
            <a:xfrm flipV="1">
              <a:off x="3348000" y="5157720"/>
              <a:ext cx="5032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7"/>
            <p:cNvSpPr/>
            <p:nvPr/>
          </p:nvSpPr>
          <p:spPr>
            <a:xfrm>
              <a:off x="3419640" y="5589720"/>
              <a:ext cx="288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8"/>
          <p:cNvGrpSpPr/>
          <p:nvPr/>
        </p:nvGrpSpPr>
        <p:grpSpPr>
          <a:xfrm>
            <a:off x="6156360" y="4437000"/>
            <a:ext cx="2665440" cy="875880"/>
            <a:chOff x="6156360" y="4437000"/>
            <a:chExt cx="2665440" cy="875880"/>
          </a:xfrm>
        </p:grpSpPr>
        <p:sp>
          <p:nvSpPr>
            <p:cNvPr id="114" name="Text Box 19"/>
            <p:cNvSpPr/>
            <p:nvPr/>
          </p:nvSpPr>
          <p:spPr>
            <a:xfrm>
              <a:off x="6516720" y="4437000"/>
              <a:ext cx="230508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Calibri"/>
                </a:rPr>
                <a:t>Incorporan un átomo del O</a:t>
              </a:r>
              <a:r>
                <a:rPr b="1" lang="es-ES" sz="2400" spc="-1" strike="noStrike" baseline="-25000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0"/>
            <p:cNvSpPr/>
            <p:nvPr/>
          </p:nvSpPr>
          <p:spPr>
            <a:xfrm>
              <a:off x="6156360" y="4869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1"/>
          <p:cNvGrpSpPr/>
          <p:nvPr/>
        </p:nvGrpSpPr>
        <p:grpSpPr>
          <a:xfrm>
            <a:off x="5724360" y="5661000"/>
            <a:ext cx="3097440" cy="875880"/>
            <a:chOff x="5724360" y="5661000"/>
            <a:chExt cx="3097440" cy="875880"/>
          </a:xfrm>
        </p:grpSpPr>
        <p:sp>
          <p:nvSpPr>
            <p:cNvPr id="117" name="Text Box 22"/>
            <p:cNvSpPr/>
            <p:nvPr/>
          </p:nvSpPr>
          <p:spPr>
            <a:xfrm>
              <a:off x="6156360" y="5661000"/>
              <a:ext cx="266544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Incorporan los 2 átomos del O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3"/>
            <p:cNvSpPr/>
            <p:nvPr/>
          </p:nvSpPr>
          <p:spPr>
            <a:xfrm>
              <a:off x="5724360" y="6093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XIGENASAS</a:t>
            </a:r>
            <a:br>
              <a:rPr sz="2000"/>
            </a:b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ONOOXIGENASAS (OXIGENASAS DE FUNCION MIXTA) </a:t>
            </a:r>
            <a:br>
              <a:rPr sz="2000"/>
            </a:br>
            <a:r>
              <a:rPr b="1" i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ó HIDROXILAS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96516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H  +  A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+  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           S-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H  +  A  + 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3857760" y="207180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84360" y="3645000"/>
            <a:ext cx="763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1 átomo de O se incorpora al sustrato y el otro forma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 flipH="1">
            <a:off x="900000" y="2349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95280" y="2708280"/>
            <a:ext cx="13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ustrato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2340000" y="2421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2195640" y="2924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-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286080" y="2928960"/>
            <a:ext cx="3279960" cy="405720"/>
          </a:xfrm>
          <a:prstGeom prst="rect">
            <a:avLst/>
          </a:prstGeom>
          <a:solidFill>
            <a:srgbClr val="f5fa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Calibri"/>
              </a:rPr>
              <a:t>NADH, NADPH, FMNH</a:t>
            </a:r>
            <a:r>
              <a:rPr b="1" lang="es-ES" sz="1800" spc="-1" strike="noStrike" baseline="-25000">
                <a:solidFill>
                  <a:srgbClr val="f42b0a"/>
                </a:solidFill>
                <a:latin typeface="Calibri"/>
              </a:rPr>
              <a:t>2</a:t>
            </a:r>
            <a:r>
              <a:rPr b="1" lang="es-ES" sz="1800" spc="-1" strike="noStrike">
                <a:solidFill>
                  <a:srgbClr val="f42b0a"/>
                </a:solidFill>
                <a:latin typeface="Calibri"/>
              </a:rPr>
              <a:t>, FADH</a:t>
            </a:r>
            <a:r>
              <a:rPr b="1" lang="es-ES" sz="1800" spc="-1" strike="noStrike" baseline="-25000">
                <a:solidFill>
                  <a:srgbClr val="f42b0a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2"/>
          <p:cNvGrpSpPr/>
          <p:nvPr/>
        </p:nvGrpSpPr>
        <p:grpSpPr>
          <a:xfrm>
            <a:off x="714240" y="4500720"/>
            <a:ext cx="8132400" cy="1375920"/>
            <a:chOff x="714240" y="4500720"/>
            <a:chExt cx="8132400" cy="1375920"/>
          </a:xfrm>
        </p:grpSpPr>
        <p:sp>
          <p:nvSpPr>
            <p:cNvPr id="129" name="Text Box 13"/>
            <p:cNvSpPr/>
            <p:nvPr/>
          </p:nvSpPr>
          <p:spPr>
            <a:xfrm>
              <a:off x="714240" y="4932360"/>
              <a:ext cx="3222360" cy="368280"/>
            </a:xfrm>
            <a:prstGeom prst="rect">
              <a:avLst/>
            </a:prstGeom>
            <a:solidFill>
              <a:srgbClr val="f5fa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ITOCROMO P-4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5"/>
            <p:cNvSpPr/>
            <p:nvPr/>
          </p:nvSpPr>
          <p:spPr>
            <a:xfrm flipV="1">
              <a:off x="4166280" y="4644720"/>
              <a:ext cx="68976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6"/>
            <p:cNvSpPr/>
            <p:nvPr/>
          </p:nvSpPr>
          <p:spPr>
            <a:xfrm>
              <a:off x="4242600" y="514800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7"/>
            <p:cNvSpPr/>
            <p:nvPr/>
          </p:nvSpPr>
          <p:spPr>
            <a:xfrm>
              <a:off x="4242600" y="5437080"/>
              <a:ext cx="69156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8"/>
            <p:cNvSpPr/>
            <p:nvPr/>
          </p:nvSpPr>
          <p:spPr>
            <a:xfrm>
              <a:off x="5086440" y="4500720"/>
              <a:ext cx="37602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Calibri"/>
                </a:rPr>
                <a:t>Hidroxilación</a:t>
              </a:r>
              <a:r>
                <a:rPr b="1" lang="es-ES" sz="1800" spc="-1" strike="noStrike">
                  <a:solidFill>
                    <a:srgbClr val="0000ff"/>
                  </a:solidFill>
                  <a:latin typeface="Calibri"/>
                </a:rPr>
                <a:t> de esteroides </a:t>
              </a: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(cort.adrena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9"/>
            <p:cNvSpPr/>
            <p:nvPr/>
          </p:nvSpPr>
          <p:spPr>
            <a:xfrm>
              <a:off x="5071320" y="5062320"/>
              <a:ext cx="37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Calibri"/>
                </a:rPr>
                <a:t>Hidroxilación</a:t>
              </a:r>
              <a:r>
                <a:rPr b="1" lang="es-ES" sz="1800" spc="-1" strike="noStrike">
                  <a:solidFill>
                    <a:srgbClr val="0000ff"/>
                  </a:solidFill>
                  <a:latin typeface="Calibri"/>
                </a:rPr>
                <a:t> de fármacos </a:t>
              </a: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(hígad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0"/>
            <p:cNvSpPr/>
            <p:nvPr/>
          </p:nvSpPr>
          <p:spPr>
            <a:xfrm>
              <a:off x="5000400" y="5508360"/>
              <a:ext cx="37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Calibri"/>
                </a:rPr>
                <a:t>Hidroxilación</a:t>
              </a:r>
              <a:r>
                <a:rPr b="1" lang="es-ES" sz="1800" spc="-1" strike="noStrike">
                  <a:solidFill>
                    <a:srgbClr val="0000ff"/>
                  </a:solidFill>
                  <a:latin typeface="Calibri"/>
                </a:rPr>
                <a:t> de xenobióticos </a:t>
              </a: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(hígad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21"/>
          <p:cNvSpPr/>
          <p:nvPr/>
        </p:nvSpPr>
        <p:spPr>
          <a:xfrm>
            <a:off x="684360" y="6021360"/>
            <a:ext cx="2592360" cy="405720"/>
          </a:xfrm>
          <a:prstGeom prst="rect">
            <a:avLst/>
          </a:prstGeom>
          <a:solidFill>
            <a:srgbClr val="f5fa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ITOCROMO b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3"/>
          <p:cNvSpPr/>
          <p:nvPr/>
        </p:nvSpPr>
        <p:spPr>
          <a:xfrm>
            <a:off x="3348000" y="623736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4572000" y="6021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alibri"/>
              </a:rPr>
              <a:t>Desaturación de ácidos grasos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(híg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OXIDA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146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xidación peroxisómica de ácidos gras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755640" y="2708280"/>
            <a:ext cx="7704000" cy="5101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lavoproteína:    FAD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FAD   y    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3857760" y="29289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5924520" y="292896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786880" cy="1143000"/>
          </a:xfrm>
          <a:prstGeom prst="rect">
            <a:avLst/>
          </a:prstGeom>
          <a:solidFill>
            <a:srgbClr val="fbfda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Sistema de Transporte Electrónico del Retículo Endoplásmico</a:t>
            </a:r>
            <a:br>
              <a:rPr sz="2400"/>
            </a:br>
            <a:r>
              <a:rPr b="1" lang="es-AR" sz="2200" spc="-1" strike="noStrike">
                <a:solidFill>
                  <a:srgbClr val="002060"/>
                </a:solidFill>
                <a:latin typeface="Calibri"/>
              </a:rPr>
              <a:t>NADPH- </a:t>
            </a:r>
            <a:r>
              <a:rPr b="1" i="1" lang="es-AR" sz="2200" spc="-1" strike="noStrike">
                <a:solidFill>
                  <a:srgbClr val="002060"/>
                </a:solidFill>
                <a:latin typeface="Calibri"/>
              </a:rPr>
              <a:t>Citocromo P-450 reductasa  </a:t>
            </a:r>
            <a:r>
              <a:rPr b="1" i="1" lang="es-AR" sz="2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es-AR" sz="2200" spc="-1" strike="noStrike">
                <a:solidFill>
                  <a:srgbClr val="c00000"/>
                </a:solidFill>
                <a:latin typeface="Calibri"/>
              </a:rPr>
              <a:t> Citocromo P-450 </a:t>
            </a:r>
            <a:br>
              <a:rPr sz="2200"/>
            </a:br>
            <a:r>
              <a:rPr b="1" i="1" lang="es-AR" sz="2000" spc="-1" strike="noStrike">
                <a:solidFill>
                  <a:srgbClr val="000000"/>
                </a:solidFill>
                <a:latin typeface="Calibri"/>
              </a:rPr>
              <a:t>Función hidroxila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uadro de texto 26"/>
          <p:cNvSpPr/>
          <p:nvPr/>
        </p:nvSpPr>
        <p:spPr>
          <a:xfrm>
            <a:off x="1619280" y="306864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uadro de texto 37"/>
          <p:cNvSpPr/>
          <p:nvPr/>
        </p:nvSpPr>
        <p:spPr>
          <a:xfrm>
            <a:off x="1042920" y="4581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Calibri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uadro de texto 38"/>
          <p:cNvSpPr/>
          <p:nvPr/>
        </p:nvSpPr>
        <p:spPr>
          <a:xfrm>
            <a:off x="971640" y="544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Calibri"/>
              </a:rPr>
              <a:t>NADP</a:t>
            </a:r>
            <a:r>
              <a:rPr b="1" lang="es-ES" sz="1800" spc="-1" strike="noStrike" baseline="30000">
                <a:solidFill>
                  <a:srgbClr val="f42b0a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forma 28"/>
          <p:cNvSpPr/>
          <p:nvPr/>
        </p:nvSpPr>
        <p:spPr>
          <a:xfrm>
            <a:off x="3490920" y="1835280"/>
            <a:ext cx="834840" cy="404640"/>
          </a:xfrm>
          <a:custGeom>
            <a:avLst/>
            <a:gdLst>
              <a:gd name="textAreaLeft" fmla="*/ 140040 w 834840"/>
              <a:gd name="textAreaRight" fmla="*/ 566280 w 83484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3" hR="21600" stAng="10800000" swAng="-5400000"/>
                <a:lnTo>
                  <a:pt x="11025" y="21600"/>
                </a:lnTo>
                <a:arcTo wR="7253" hR="21600" stAng="5400000" swAng="-2611300"/>
                <a:lnTo>
                  <a:pt x="21185" y="7200"/>
                </a:lnTo>
                <a:lnTo>
                  <a:pt x="16391" y="0"/>
                </a:lnTo>
                <a:lnTo>
                  <a:pt x="10767" y="7200"/>
                </a:lnTo>
                <a:lnTo>
                  <a:pt x="14090" y="7200"/>
                </a:lnTo>
                <a:arcTo wR="7253" hR="21600" stAng="2788700" swAng="2301282"/>
                <a:lnTo>
                  <a:pt x="9139" y="20857"/>
                </a:lnTo>
                <a:arcTo wR="7253" hR="21600" stAng="5710018" swAng="5089982"/>
                <a:close/>
              </a:path>
              <a:path fill="darkenLess" w="21600" h="21600">
                <a:moveTo>
                  <a:pt x="0" y="0"/>
                </a:moveTo>
                <a:arcTo wR="7253" hR="21600" stAng="10800000" swAng="-5400000"/>
                <a:lnTo>
                  <a:pt x="11025" y="21600"/>
                </a:lnTo>
                <a:arcTo wR="7253" hR="21600" stAng="5400000" swAng="310018"/>
                <a:lnTo>
                  <a:pt x="9139" y="20857"/>
                </a:lnTo>
                <a:arcTo wR="7253" hR="21600" stAng="5710018" swAng="5089982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ínea 29"/>
          <p:cNvSpPr/>
          <p:nvPr/>
        </p:nvSpPr>
        <p:spPr>
          <a:xfrm>
            <a:off x="3132000" y="2311560"/>
            <a:ext cx="14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forma 30"/>
          <p:cNvSpPr/>
          <p:nvPr/>
        </p:nvSpPr>
        <p:spPr>
          <a:xfrm>
            <a:off x="3419640" y="2311560"/>
            <a:ext cx="939600" cy="507960"/>
          </a:xfrm>
          <a:custGeom>
            <a:avLst/>
            <a:gdLst>
              <a:gd name="textAreaLeft" fmla="*/ 171000 w 939600"/>
              <a:gd name="textAreaRight" fmla="*/ 648720 w 939600"/>
              <a:gd name="textAreaTop" fmla="*/ 68040 h 507960"/>
              <a:gd name="textAreaBottom" fmla="*/ 4399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60" hR="21600" stAng="10800000" swAng="5400000"/>
                <a:lnTo>
                  <a:pt x="10980" y="0"/>
                </a:lnTo>
                <a:arcTo wR="7860" hR="21600" stAng="-5400000" swAng="2749521"/>
                <a:lnTo>
                  <a:pt x="21150" y="14400"/>
                </a:lnTo>
                <a:lnTo>
                  <a:pt x="17280" y="21600"/>
                </a:lnTo>
                <a:lnTo>
                  <a:pt x="12510" y="14400"/>
                </a:lnTo>
                <a:lnTo>
                  <a:pt x="15270" y="14400"/>
                </a:lnTo>
                <a:arcTo wR="7860" hR="21600" stAng="-2650479" swAng="-2496657"/>
                <a:lnTo>
                  <a:pt x="9420" y="430"/>
                </a:lnTo>
                <a:arcTo wR="7860" hR="21600" stAng="-5652864" swAng="-5147136"/>
                <a:close/>
              </a:path>
              <a:path fill="darkenLess" w="21600" h="21600">
                <a:moveTo>
                  <a:pt x="0" y="21600"/>
                </a:moveTo>
                <a:arcTo wR="7860" hR="21600" stAng="10800000" swAng="5400000"/>
                <a:lnTo>
                  <a:pt x="7860" y="0"/>
                </a:lnTo>
                <a:arcTo wR="7860" hR="21600" stAng="-5400000" swAng="252864"/>
                <a:lnTo>
                  <a:pt x="9420" y="430"/>
                </a:lnTo>
                <a:arcTo wR="7860" hR="21600" stAng="-5652864" swAng="-5147136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uadro de texto 31"/>
          <p:cNvSpPr/>
          <p:nvPr/>
        </p:nvSpPr>
        <p:spPr>
          <a:xfrm>
            <a:off x="4211640" y="2744640"/>
            <a:ext cx="24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c540a"/>
                </a:solidFill>
                <a:latin typeface="Calibri"/>
              </a:rPr>
              <a:t>CitP-450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(ox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uadro de texto 32"/>
          <p:cNvSpPr/>
          <p:nvPr/>
        </p:nvSpPr>
        <p:spPr>
          <a:xfrm>
            <a:off x="1558800" y="27622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c540a"/>
                </a:solidFill>
                <a:latin typeface="Calibri"/>
              </a:rPr>
              <a:t>CitP-450 </a:t>
            </a: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(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uadro de texto 33"/>
          <p:cNvSpPr/>
          <p:nvPr/>
        </p:nvSpPr>
        <p:spPr>
          <a:xfrm>
            <a:off x="1259280" y="2023920"/>
            <a:ext cx="13816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ustrat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uadro de texto 34"/>
          <p:cNvSpPr/>
          <p:nvPr/>
        </p:nvSpPr>
        <p:spPr>
          <a:xfrm>
            <a:off x="5054400" y="2095560"/>
            <a:ext cx="27547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ustrato hidroxi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adro de texto 35"/>
          <p:cNvSpPr/>
          <p:nvPr/>
        </p:nvSpPr>
        <p:spPr>
          <a:xfrm>
            <a:off x="2843280" y="1484280"/>
            <a:ext cx="6271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42b0a"/>
                </a:solidFill>
                <a:latin typeface="Calibri"/>
              </a:rPr>
              <a:t>O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Calibri"/>
              </a:rPr>
              <a:t>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uadro de texto 36"/>
          <p:cNvSpPr/>
          <p:nvPr/>
        </p:nvSpPr>
        <p:spPr>
          <a:xfrm>
            <a:off x="4200480" y="148428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42b0a"/>
                </a:solidFill>
                <a:latin typeface="Calibri"/>
              </a:rPr>
              <a:t>H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f42b0a"/>
                </a:solidFill>
                <a:latin typeface="Calibri"/>
              </a:rPr>
              <a:t>O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lipse 43"/>
          <p:cNvSpPr/>
          <p:nvPr/>
        </p:nvSpPr>
        <p:spPr>
          <a:xfrm>
            <a:off x="2771640" y="4724280"/>
            <a:ext cx="1944720" cy="15130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NADPH-Citocro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P-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(FM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lipse 45"/>
          <p:cNvSpPr/>
          <p:nvPr/>
        </p:nvSpPr>
        <p:spPr>
          <a:xfrm>
            <a:off x="4859280" y="4791240"/>
            <a:ext cx="1944720" cy="15127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Citocromo P-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(Hem, cit tipo 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adro de texto 46"/>
          <p:cNvSpPr/>
          <p:nvPr/>
        </p:nvSpPr>
        <p:spPr>
          <a:xfrm>
            <a:off x="7236000" y="4437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uadro de texto 47"/>
          <p:cNvSpPr/>
          <p:nvPr/>
        </p:nvSpPr>
        <p:spPr>
          <a:xfrm>
            <a:off x="7308720" y="6165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adro de texto 48"/>
          <p:cNvSpPr/>
          <p:nvPr/>
        </p:nvSpPr>
        <p:spPr>
          <a:xfrm>
            <a:off x="7162920" y="5157720"/>
            <a:ext cx="71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42b0a"/>
                </a:solidFill>
                <a:latin typeface="Calibri"/>
              </a:rPr>
              <a:t>O</a:t>
            </a:r>
            <a:r>
              <a:rPr b="1" lang="es-ES" sz="2000" spc="-1" strike="noStrike" baseline="-25000">
                <a:solidFill>
                  <a:srgbClr val="f42b0a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uadro de texto 49"/>
          <p:cNvSpPr/>
          <p:nvPr/>
        </p:nvSpPr>
        <p:spPr>
          <a:xfrm>
            <a:off x="7236000" y="559116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</a:rPr>
              <a:t>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000" spc="-1" strike="noStrike">
                <a:solidFill>
                  <a:srgbClr val="f42b0a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uadro de texto 39"/>
          <p:cNvSpPr/>
          <p:nvPr/>
        </p:nvSpPr>
        <p:spPr>
          <a:xfrm>
            <a:off x="3132000" y="4653000"/>
            <a:ext cx="122400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FMN-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uadro de texto 40"/>
          <p:cNvSpPr/>
          <p:nvPr/>
        </p:nvSpPr>
        <p:spPr>
          <a:xfrm>
            <a:off x="3059280" y="6093000"/>
            <a:ext cx="143964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alibri"/>
              </a:rPr>
              <a:t>FMN-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uadro de texto 41"/>
          <p:cNvSpPr/>
          <p:nvPr/>
        </p:nvSpPr>
        <p:spPr>
          <a:xfrm>
            <a:off x="5148360" y="4575240"/>
            <a:ext cx="143964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alibri"/>
              </a:rPr>
              <a:t>Redu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uadro de texto 42"/>
          <p:cNvSpPr/>
          <p:nvPr/>
        </p:nvSpPr>
        <p:spPr>
          <a:xfrm>
            <a:off x="5219640" y="6230880"/>
            <a:ext cx="122400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Ox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forma 63"/>
          <p:cNvSpPr/>
          <p:nvPr/>
        </p:nvSpPr>
        <p:spPr>
          <a:xfrm>
            <a:off x="2195640" y="4869000"/>
            <a:ext cx="503280" cy="1152360"/>
          </a:xfrm>
          <a:custGeom>
            <a:avLst/>
            <a:gdLst>
              <a:gd name="textAreaLeft" fmla="*/ 67320 w 503280"/>
              <a:gd name="textAreaRight" fmla="*/ 435960 w 50328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forma 64"/>
          <p:cNvSpPr/>
          <p:nvPr/>
        </p:nvSpPr>
        <p:spPr>
          <a:xfrm>
            <a:off x="2700360" y="4797360"/>
            <a:ext cx="431640" cy="1584360"/>
          </a:xfrm>
          <a:custGeom>
            <a:avLst/>
            <a:gdLst>
              <a:gd name="textAreaLeft" fmla="*/ 57600 w 431640"/>
              <a:gd name="textAreaRight" fmla="*/ 374040 w 431640"/>
              <a:gd name="textAreaTop" fmla="*/ 311760 h 1584360"/>
              <a:gd name="textAreaBottom" fmla="*/ 111384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08" stAng="-5400000" swAng="-5400000"/>
                <a:lnTo>
                  <a:pt x="0" y="10932"/>
                </a:lnTo>
                <a:arcTo wR="21600" hR="8508" stAng="10800000" swAng="-2885337"/>
                <a:lnTo>
                  <a:pt x="14400" y="21113"/>
                </a:lnTo>
                <a:lnTo>
                  <a:pt x="21600" y="18228"/>
                </a:lnTo>
                <a:lnTo>
                  <a:pt x="14400" y="14369"/>
                </a:lnTo>
                <a:lnTo>
                  <a:pt x="14400" y="16529"/>
                </a:lnTo>
                <a:arcTo wR="21600" hR="8508" stAng="7914663" swAng="2690662"/>
                <a:lnTo>
                  <a:pt x="220" y="9720"/>
                </a:lnTo>
                <a:arcTo wR="21600" hR="8508" stAng="-10605325" swAng="5205325"/>
                <a:close/>
              </a:path>
              <a:path fill="darkenLess" w="21600" h="21600">
                <a:moveTo>
                  <a:pt x="21600" y="0"/>
                </a:moveTo>
                <a:arcTo wR="21600" hR="8508" stAng="-5400000" swAng="-5400000"/>
                <a:lnTo>
                  <a:pt x="0" y="8508"/>
                </a:lnTo>
                <a:arcTo wR="21600" hR="8508" stAng="10800000" swAng="-194675"/>
                <a:lnTo>
                  <a:pt x="220" y="9720"/>
                </a:lnTo>
                <a:arcTo wR="21600" hR="8508" stAng="-10605325" swAng="5205325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upo 67"/>
          <p:cNvGrpSpPr/>
          <p:nvPr/>
        </p:nvGrpSpPr>
        <p:grpSpPr>
          <a:xfrm>
            <a:off x="4356000" y="4581360"/>
            <a:ext cx="792360" cy="1656000"/>
            <a:chOff x="4356000" y="4581360"/>
            <a:chExt cx="792360" cy="1656000"/>
          </a:xfrm>
        </p:grpSpPr>
        <p:sp>
          <p:nvSpPr>
            <p:cNvPr id="170" name="Autoforma 65"/>
            <p:cNvSpPr/>
            <p:nvPr/>
          </p:nvSpPr>
          <p:spPr>
            <a:xfrm rot="16200000">
              <a:off x="3744720" y="5192640"/>
              <a:ext cx="1656000" cy="433440"/>
            </a:xfrm>
            <a:custGeom>
              <a:avLst/>
              <a:gdLst>
                <a:gd name="textAreaLeft" fmla="*/ 321840 w 1656000"/>
                <a:gd name="textAreaRight" fmla="*/ 1168560 w 1656000"/>
                <a:gd name="textAreaTop" fmla="*/ 57960 h 433440"/>
                <a:gd name="textAreaBottom" fmla="*/ 37548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396" hR="21600" stAng="10800000" swAng="-5400000"/>
                  <a:lnTo>
                    <a:pt x="11045" y="21600"/>
                  </a:lnTo>
                  <a:arcTo wR="8396" hR="21600" stAng="5400000" swAng="-2006064"/>
                  <a:lnTo>
                    <a:pt x="20439" y="10958"/>
                  </a:lnTo>
                  <a:lnTo>
                    <a:pt x="18116" y="0"/>
                  </a:lnTo>
                  <a:lnTo>
                    <a:pt x="13470" y="10958"/>
                  </a:lnTo>
                  <a:lnTo>
                    <a:pt x="15630" y="10958"/>
                  </a:lnTo>
                  <a:arcTo wR="8396" hR="21600" stAng="3393936" swAng="1792864"/>
                  <a:lnTo>
                    <a:pt x="9720" y="21330"/>
                  </a:lnTo>
                  <a:arcTo wR="8396" hR="21600" stAng="5613200" swAng="5186800"/>
                  <a:close/>
                </a:path>
                <a:path fill="darkenLess" w="21600" h="21600">
                  <a:moveTo>
                    <a:pt x="0" y="0"/>
                  </a:moveTo>
                  <a:arcTo wR="8396" hR="21600" stAng="10800000" swAng="-5400000"/>
                  <a:lnTo>
                    <a:pt x="11045" y="21600"/>
                  </a:lnTo>
                  <a:arcTo wR="8396" hR="21600" stAng="5400000" swAng="213200"/>
                  <a:lnTo>
                    <a:pt x="9720" y="21330"/>
                  </a:lnTo>
                  <a:arcTo wR="8396" hR="21600" stAng="5613200" swAng="5186800"/>
                  <a:close/>
                </a:path>
              </a:pathLst>
            </a:custGeom>
            <a:solidFill>
              <a:srgbClr val="5c54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forma 66"/>
            <p:cNvSpPr/>
            <p:nvPr/>
          </p:nvSpPr>
          <p:spPr>
            <a:xfrm rot="16200000">
              <a:off x="4176000" y="5264640"/>
              <a:ext cx="1584360" cy="360360"/>
            </a:xfrm>
            <a:custGeom>
              <a:avLst/>
              <a:gdLst>
                <a:gd name="textAreaLeft" fmla="*/ 306360 w 1584360"/>
                <a:gd name="textAreaRight" fmla="*/ 1096920 w 1584360"/>
                <a:gd name="textAreaTop" fmla="*/ 48240 h 360360"/>
                <a:gd name="textAreaBottom" fmla="*/ 3121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55" hR="21600" stAng="10800000" swAng="5400000"/>
                  <a:lnTo>
                    <a:pt x="10778" y="0"/>
                  </a:lnTo>
                  <a:arcTo wR="8355" hR="21600" stAng="-5400000" swAng="2854195"/>
                  <a:lnTo>
                    <a:pt x="21122" y="14400"/>
                  </a:lnTo>
                  <a:lnTo>
                    <a:pt x="17921" y="21600"/>
                  </a:lnTo>
                  <a:lnTo>
                    <a:pt x="13763" y="14400"/>
                  </a:lnTo>
                  <a:lnTo>
                    <a:pt x="16231" y="14400"/>
                  </a:lnTo>
                  <a:arcTo wR="8355" hR="21600" stAng="-2545805" swAng="-2659528"/>
                  <a:lnTo>
                    <a:pt x="9566" y="228"/>
                  </a:lnTo>
                  <a:arcTo wR="8355" hR="21600" stAng="-5594668" swAng="-5205332"/>
                  <a:close/>
                </a:path>
                <a:path fill="darkenLess" w="21600" h="21600">
                  <a:moveTo>
                    <a:pt x="0" y="21600"/>
                  </a:moveTo>
                  <a:arcTo wR="8355" hR="21600" stAng="10800000" swAng="5400000"/>
                  <a:lnTo>
                    <a:pt x="8355" y="0"/>
                  </a:lnTo>
                  <a:arcTo wR="8355" hR="21600" stAng="-5400000" swAng="194668"/>
                  <a:lnTo>
                    <a:pt x="9566" y="228"/>
                  </a:lnTo>
                  <a:arcTo wR="8355" hR="21600" stAng="-5594668" swAng="-5205332"/>
                  <a:close/>
                </a:path>
              </a:pathLst>
            </a:custGeom>
            <a:solidFill>
              <a:srgbClr val="5c54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Autoforma 69"/>
          <p:cNvSpPr/>
          <p:nvPr/>
        </p:nvSpPr>
        <p:spPr>
          <a:xfrm rot="5135400">
            <a:off x="6192360" y="5408640"/>
            <a:ext cx="1656000" cy="433440"/>
          </a:xfrm>
          <a:custGeom>
            <a:avLst/>
            <a:gdLst>
              <a:gd name="textAreaLeft" fmla="*/ 321840 w 1656000"/>
              <a:gd name="textAreaRight" fmla="*/ 1168560 w 165600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96" hR="21600" stAng="10800000" swAng="-5400000"/>
                <a:lnTo>
                  <a:pt x="11045" y="21600"/>
                </a:lnTo>
                <a:arcTo wR="8396" hR="21600" stAng="5400000" swAng="-2006064"/>
                <a:lnTo>
                  <a:pt x="20439" y="10958"/>
                </a:lnTo>
                <a:lnTo>
                  <a:pt x="18116" y="0"/>
                </a:lnTo>
                <a:lnTo>
                  <a:pt x="13470" y="10958"/>
                </a:lnTo>
                <a:lnTo>
                  <a:pt x="15630" y="10958"/>
                </a:lnTo>
                <a:arcTo wR="8396" hR="21600" stAng="3393936" swAng="1792864"/>
                <a:lnTo>
                  <a:pt x="9720" y="21330"/>
                </a:lnTo>
                <a:arcTo wR="8396" hR="21600" stAng="5613200" swAng="5186800"/>
                <a:close/>
              </a:path>
              <a:path fill="darkenLess" w="21600" h="21600">
                <a:moveTo>
                  <a:pt x="0" y="0"/>
                </a:moveTo>
                <a:arcTo wR="8396" hR="21600" stAng="10800000" swAng="-5400000"/>
                <a:lnTo>
                  <a:pt x="11045" y="21600"/>
                </a:lnTo>
                <a:arcTo wR="8396" hR="21600" stAng="5400000" swAng="213200"/>
                <a:lnTo>
                  <a:pt x="9720" y="21330"/>
                </a:lnTo>
                <a:arcTo wR="8396" hR="21600" stAng="5613200" swAng="5186800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forma 70"/>
          <p:cNvSpPr/>
          <p:nvPr/>
        </p:nvSpPr>
        <p:spPr>
          <a:xfrm rot="5271600">
            <a:off x="5830920" y="5409360"/>
            <a:ext cx="1584360" cy="360360"/>
          </a:xfrm>
          <a:custGeom>
            <a:avLst/>
            <a:gdLst>
              <a:gd name="textAreaLeft" fmla="*/ 306360 w 1584360"/>
              <a:gd name="textAreaRight" fmla="*/ 1096920 w 1584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55" hR="21600" stAng="10800000" swAng="5400000"/>
                <a:lnTo>
                  <a:pt x="10778" y="0"/>
                </a:lnTo>
                <a:arcTo wR="8355" hR="21600" stAng="-5400000" swAng="2854195"/>
                <a:lnTo>
                  <a:pt x="21122" y="14400"/>
                </a:lnTo>
                <a:lnTo>
                  <a:pt x="17921" y="21600"/>
                </a:lnTo>
                <a:lnTo>
                  <a:pt x="13763" y="14400"/>
                </a:lnTo>
                <a:lnTo>
                  <a:pt x="16231" y="14400"/>
                </a:lnTo>
                <a:arcTo wR="8355" hR="21600" stAng="-2545805" swAng="-2659528"/>
                <a:lnTo>
                  <a:pt x="9566" y="228"/>
                </a:lnTo>
                <a:arcTo wR="8355" hR="21600" stAng="-5594668" swAng="-5205332"/>
                <a:close/>
              </a:path>
              <a:path fill="darkenLess" w="21600" h="21600">
                <a:moveTo>
                  <a:pt x="0" y="21600"/>
                </a:moveTo>
                <a:arcTo wR="8355" hR="21600" stAng="10800000" swAng="5400000"/>
                <a:lnTo>
                  <a:pt x="8355" y="0"/>
                </a:lnTo>
                <a:arcTo wR="8355" hR="21600" stAng="-5400000" swAng="194668"/>
                <a:lnTo>
                  <a:pt x="9566" y="228"/>
                </a:lnTo>
                <a:arcTo wR="8355" hR="21600" stAng="-5594668" swAng="-5205332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forma 71"/>
          <p:cNvSpPr/>
          <p:nvPr/>
        </p:nvSpPr>
        <p:spPr>
          <a:xfrm>
            <a:off x="6804000" y="5300640"/>
            <a:ext cx="432000" cy="433440"/>
          </a:xfrm>
          <a:custGeom>
            <a:avLst/>
            <a:gdLst>
              <a:gd name="textAreaLeft" fmla="*/ 57600 w 432000"/>
              <a:gd name="textAreaRight" fmla="*/ 374400 w 432000"/>
              <a:gd name="textAreaTop" fmla="*/ 75600 h 433440"/>
              <a:gd name="textAreaBottom" fmla="*/ 314280 h 4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 CuadroTexto"/>
          <p:cNvSpPr/>
          <p:nvPr/>
        </p:nvSpPr>
        <p:spPr>
          <a:xfrm>
            <a:off x="192240" y="3252960"/>
            <a:ext cx="8700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a hidroxilación de sustancias extrañas, aumenta su polaridad y solubilidad en agua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facilita su eliminación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anula su toxicidad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aumenta su metabolismo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son excreta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Mecanismos de desintoxicación (hígado)</a:t>
            </a: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22:03:54Z</dcterms:created>
  <dc:creator>ali y facu</dc:creator>
  <dc:description/>
  <dc:language>en-US</dc:language>
  <cp:lastModifiedBy>ali y facu</cp:lastModifiedBy>
  <dcterms:modified xsi:type="dcterms:W3CDTF">2016-04-04T17:56:44Z</dcterms:modified>
  <cp:revision>20</cp:revision>
  <dc:subject/>
  <dc:title>QUÍMICA BIOLÓGICA</dc:title>
</cp:coreProperties>
</file>